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139-E41D-4CF4-8166-5BBDDA23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989-5760-4520-A7FF-5F9F05C4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51F-6719-42D4-BEF6-DC34E738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F98-2E00-41C3-8375-7C4E950C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D04A-B9FE-4DEC-9DFB-887F73C5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AECB-F104-4B52-8683-EE1AB88B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3349-51DD-4BE0-B791-252E02FB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945B-F907-449A-98E5-DD29AB87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4DBB-134E-4636-B6B9-3815A9C8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658D-D099-49B2-BDE2-9FCE855B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BA95-9141-4FCE-86EA-4C43688A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431-F166-4E2D-82BC-7C18AE9A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EFDF-1706-4249-A483-CBCE33E0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9493-6FC5-4C2B-B2BE-6FE5BE5D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79F1-B500-48CB-A2E9-4220177C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B9A7-566B-4642-81F1-4DC9CC55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3DBC-60E3-4295-9722-BD0967E3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97D-09DD-4532-84F5-EA8C5A5B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906-8D1C-43B9-84EC-91BDA8C4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57F-51D8-49AD-9E15-FF869EF0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7BD-1B0E-432D-9D1F-7FF5336F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CFA-CFE8-48F4-A73B-96BCE141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3F9-6B8C-4B3C-844A-20C4E1E9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BE4-9C11-499F-A61A-C0F3B7A1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D573-3D42-4063-9AF7-7ECA8B8D08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45CF-2128-429A-8B5E-41F2E87F5FC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bc40"/>
                </a:solidFill>
                <a:latin typeface="comic"/>
              </a:rPr>
              <a:t>COSTUME-CONTEMPORANE</a:t>
            </a:r>
            <a:endParaRPr b="0" lang="en-US" sz="32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28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80cc"/>
                </a:solidFill>
                <a:latin typeface="Arial"/>
              </a:rPr>
              <a:t>Functiile costumul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8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80cc"/>
                </a:solidFill>
                <a:latin typeface="Arial"/>
              </a:rPr>
              <a:t>Stilurile costumului contempo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8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80cc"/>
                </a:solidFill>
                <a:latin typeface="Arial"/>
              </a:rPr>
              <a:t>Caracterizarea principalelor stilu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5545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bc40"/>
                </a:solidFill>
                <a:latin typeface="Agency FB"/>
              </a:rPr>
              <a:t>              </a:t>
            </a:r>
            <a:r>
              <a:rPr b="0" lang="en-US" sz="3600" spc="-1" strike="noStrike">
                <a:solidFill>
                  <a:srgbClr val="f4bc40"/>
                </a:solidFill>
                <a:latin typeface="Agency FB"/>
              </a:rPr>
              <a:t>FUNCTIILE COSTUMULUI 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981000"/>
            <a:ext cx="7386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IDENTIFICATI FUNCTIILE URMATOARELOR PRODUSE VESTIMENTARE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1933560" cy="2087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116000" y="4653000"/>
            <a:ext cx="1295280" cy="1343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3924360" y="4149720"/>
            <a:ext cx="2951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bc40"/>
                </a:solidFill>
                <a:latin typeface="Arial"/>
              </a:rPr>
              <a:t>STILURI VESTIMENTARE CONTEMPORANE</a:t>
            </a:r>
            <a:endParaRPr b="0" lang="en-US" sz="24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ETI CORESPODENTA DINTRE PRODUSELE VESTIMENTARE SI STILURI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DE BIR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CLA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ETNO/FOLCLO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4221000"/>
            <a:ext cx="1403280" cy="1944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684360" y="4292640"/>
            <a:ext cx="1368360" cy="1873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2843280" y="4221000"/>
            <a:ext cx="1908000" cy="1944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4859280" y="1413000"/>
            <a:ext cx="2233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bc40"/>
                </a:solidFill>
                <a:latin typeface="Arial"/>
              </a:rPr>
              <a:t>CARACTERISTICILE STILURILOR VESTIMENTARE CONTEMPORANE</a:t>
            </a:r>
            <a:endParaRPr b="0" lang="en-US" sz="24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ENUMERATI CATE TREI CARACTERISTICI PENTRU STILU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CLASIC ……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                   …………………</a:t>
            </a: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                   …………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DE BIROU…………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                      …………………</a:t>
            </a: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                      ……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ROMANTIC…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                        ………………</a:t>
            </a: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                        …………………</a:t>
            </a:r>
            <a:r>
              <a:rPr b="0" lang="en-US" sz="2000" spc="-1" strike="noStrike">
                <a:solidFill>
                  <a:srgbClr val="f4bc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5280" y="1557000"/>
            <a:ext cx="7477200" cy="58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c4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4bc40"/>
                </a:solidFill>
                <a:latin typeface="Arial"/>
              </a:rPr>
              <a:t>ENUMERATI SI ALTE STILURI VESTIMENTARE CUNOSCUTE DE V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c4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4bc40"/>
                </a:solidFill>
                <a:latin typeface="Arial"/>
              </a:rPr>
              <a:t>PREZENTATI IN CATEVA CUVINTE STILUL VESTIMENTAR CARE VA REPREZI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8:12:20Z</dcterms:created>
  <dc:creator>A</dc:creator>
  <dc:description/>
  <dc:language>en-US</dc:language>
  <cp:lastModifiedBy>A</cp:lastModifiedBy>
  <dcterms:modified xsi:type="dcterms:W3CDTF">2010-07-06T21:35:34Z</dcterms:modified>
  <cp:revision>9</cp:revision>
  <dc:subject/>
  <dc:title>COSTUME-CONTEMPORANE</dc:title>
</cp:coreProperties>
</file>